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0FA2-1C7D-455D-90BE-2331F0C5BC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589D-5BBF-480D-BF09-61F0B16E17F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C8ED-71C6-44FF-AE82-0A8E7E25C2A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0B46-16C6-4A77-AEFF-7788CF71077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8F51-9BBF-4C1E-A121-824AA709B2F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73C7-840A-4BE9-BAE3-ABEAC5C75D7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8F56-BDD5-451C-9BC4-BFC7BBD8CE5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A1CA-4C0B-47A4-9F30-EECA812B933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B690-63C3-4F98-BC16-5AB952DEF4F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2ABC-8EB1-41F7-878A-CF06ADD7EC5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7CAE-59F9-4821-B045-3D429663AA4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B3CE-DA9B-4046-8E0D-0C916FBE346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2790-C5A0-4850-B1F4-C89879AB3CB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9526-FBC1-44A3-BFB6-A48CF259575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5E44-F4E1-4F38-BD1C-0D1691C0C81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BCD6-26F2-41D2-AAD5-65CFA804D7E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2766-C276-42D0-9AB8-C85FCD124AB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FF44-C160-4131-B12F-EB32797284B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AEF8-FC2E-4353-810B-4E021D55E8D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4552-F51D-44FB-BA13-D1A98873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8C1B-D8EF-4453-969F-056D0DC0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1CD8-6BAE-4CF5-88CE-19CA9C7C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B9D-BAE8-42A3-BF10-B49668EE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D25F-C3E3-4468-8D42-413C3FA7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6587-362A-43D9-9080-5C6AD709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BDFB-6E59-4FD2-9162-77EF1084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D096-3273-4408-88A2-065A8CFA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FE2E-F116-4207-B21A-01E08E74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625D-DE2B-43A3-B5F5-CC8B4CB8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6BDA-5C43-4746-B411-5A609008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FAB0-8FE5-4216-B345-EC4A05A0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C835-4255-4539-8921-01131F4C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29C7-73E6-48BF-A18C-77A6A2E5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FDE1-9CB4-41CD-98C7-F684F7B8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04B2-552D-4AAB-ADA9-DB1E6FBA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DD36-EF58-4453-A38D-5F65BDB7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25E8F-A55F-4FF8-A681-DA8877C7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60CC1-A838-44F1-BEEC-24260C7A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9AA7C-B608-493C-A330-43F213EA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0F462-25EA-4C66-8B1B-1E0D6AFC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DDD7C-F507-42B5-9197-7064245E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2C1-CB4B-46C2-A6CA-451E7D04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DA8DF-94DA-44D0-A775-77495613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AE0C8-115F-4EB3-BD7D-45517F43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A9AB6-5822-471F-B2D1-47BE7608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851F4-85CF-4E32-BB63-BD1CCE93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73667-79B3-4158-8E08-A84CD8ED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27244-7DF5-4A53-A856-2B4E6A2D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9DB07-B9E2-462B-8C36-56E085A2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0A46-70F3-4CDC-97D8-18B54BA4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2F3-1F51-4617-B243-95802B36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F36-74E4-403A-BB7E-452A25DE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EB58-0416-4717-BD3F-EAD5FE83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C726-9D9C-4596-8A05-11E3D269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93B-7176-4E80-9BA3-CA99DA73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6094-71F3-411D-9701-5D6BDD04FC02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6B43-7535-42D5-A6E7-3D8ACC1DFBE8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29D9-4E4D-40E6-8615-18585020BCBB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13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47520" y="-360"/>
            <a:ext cx="8674200" cy="25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章    生命活动的调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人体对外界环境的感知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圆角矩形 6">
            <a:hlinkClick r:id="rId1" action="ppaction://hlinksldjump"/>
          </p:cNvPr>
          <p:cNvSpPr/>
          <p:nvPr/>
        </p:nvSpPr>
        <p:spPr>
          <a:xfrm>
            <a:off x="4414680" y="2467080"/>
            <a:ext cx="32655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导学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菱形 8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菱形 9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圆角矩形 10">
            <a:hlinkClick r:id="rId2" action="ppaction://hlinksldjump"/>
          </p:cNvPr>
          <p:cNvSpPr/>
          <p:nvPr/>
        </p:nvSpPr>
        <p:spPr>
          <a:xfrm>
            <a:off x="4414680" y="3284640"/>
            <a:ext cx="32655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课前预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圆角矩形 11">
            <a:hlinkClick r:id="rId3" action="ppaction://hlinksldjump"/>
          </p:cNvPr>
          <p:cNvSpPr/>
          <p:nvPr/>
        </p:nvSpPr>
        <p:spPr>
          <a:xfrm>
            <a:off x="4414680" y="4076640"/>
            <a:ext cx="32655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课堂探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圆角矩形 12">
            <a:hlinkClick r:id="rId4" action="ppaction://hlinksldjump"/>
          </p:cNvPr>
          <p:cNvSpPr/>
          <p:nvPr/>
        </p:nvSpPr>
        <p:spPr>
          <a:xfrm>
            <a:off x="4414680" y="5661000"/>
            <a:ext cx="32655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课后练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圆角矩形 13">
            <a:hlinkClick r:id="rId5" action="ppaction://hlinksldjump"/>
          </p:cNvPr>
          <p:cNvSpPr/>
          <p:nvPr/>
        </p:nvSpPr>
        <p:spPr>
          <a:xfrm>
            <a:off x="4414680" y="4869000"/>
            <a:ext cx="32655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随堂检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00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1523880" y="2115720"/>
            <a:ext cx="898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听觉的形成过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声波→外耳道→鼓膜→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→耳蜗内对声波敏感的感觉细胞→声音信息通过听觉神经传导→大脑（产生听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保护耳和听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减少和消除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不要用尖锐的东西挖耳朵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遇巨响时，迅速张开口；使咽鼓管张开，或闭嘴、堵耳，以保持鼓膜两侧大气压力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4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注意卫生清洁，避免中耳炎和外耳道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"/>
          <p:cNvSpPr/>
          <p:nvPr/>
        </p:nvSpPr>
        <p:spPr>
          <a:xfrm>
            <a:off x="5859360" y="1761120"/>
            <a:ext cx="282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听小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"/>
          <p:cNvSpPr/>
          <p:nvPr/>
        </p:nvSpPr>
        <p:spPr>
          <a:xfrm>
            <a:off x="4602240" y="378540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噪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8607600" y="5215680"/>
            <a:ext cx="28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平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00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1"/>
          <p:cNvSpPr/>
          <p:nvPr/>
        </p:nvSpPr>
        <p:spPr>
          <a:xfrm>
            <a:off x="1523880" y="2143440"/>
            <a:ext cx="898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知识点四其他感觉器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鼻：鼻腔上端的黏膜中有对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十分敏感的细胞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舌：舌的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两侧有对味道十分敏感的突起，能辨别酸、甜、苦、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皮肤：能感受外界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、热、痛、触、压等刺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"/>
          <p:cNvSpPr/>
          <p:nvPr/>
        </p:nvSpPr>
        <p:spPr>
          <a:xfrm>
            <a:off x="7143840" y="178668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气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1"/>
          <p:cNvSpPr/>
          <p:nvPr/>
        </p:nvSpPr>
        <p:spPr>
          <a:xfrm>
            <a:off x="4005360" y="287424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上表面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"/>
          <p:cNvSpPr/>
          <p:nvPr/>
        </p:nvSpPr>
        <p:spPr>
          <a:xfrm>
            <a:off x="5543640" y="384228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922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堂探究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1847880" y="10476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兰亭黑简体"/>
              </a:rPr>
              <a:t>探究一  眼球的结构和视觉的形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2"/>
          <p:cNvSpPr/>
          <p:nvPr/>
        </p:nvSpPr>
        <p:spPr>
          <a:xfrm>
            <a:off x="1631880" y="1916280"/>
            <a:ext cx="906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阅读课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79~8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的内容，并回答相关问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俗话说的人眼的“白眼球”和“黑眼球”，分别是指眼球的什么结构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1"/>
          <p:cNvSpPr/>
          <p:nvPr/>
        </p:nvSpPr>
        <p:spPr>
          <a:xfrm>
            <a:off x="2125800" y="389304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    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白眼球”和“黑眼球”分别是指眼球的巩膜和虹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922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堂探究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矩形 2"/>
          <p:cNvSpPr/>
          <p:nvPr/>
        </p:nvSpPr>
        <p:spPr>
          <a:xfrm>
            <a:off x="1600200" y="907920"/>
            <a:ext cx="90630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形成物象和视觉分别是什么结构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下面请你用关键词和箭头写出视觉的形成过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"/>
          <p:cNvSpPr/>
          <p:nvPr/>
        </p:nvSpPr>
        <p:spPr>
          <a:xfrm>
            <a:off x="2208240" y="194868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形成物象和视觉分别是视网膜和大脑皮层的视觉中枢。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1986120" y="4786920"/>
            <a:ext cx="80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外界光线→角膜→瞳孔→晶状体→玻璃体→视网膜→视神经→大脑皮层的特定区域（视觉中枢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9224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堂探究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矩形 2"/>
          <p:cNvSpPr/>
          <p:nvPr/>
        </p:nvSpPr>
        <p:spPr>
          <a:xfrm>
            <a:off x="1563840" y="1419120"/>
            <a:ext cx="906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你能写出近视形成的主要原理及矫正方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1"/>
          <p:cNvSpPr/>
          <p:nvPr/>
        </p:nvSpPr>
        <p:spPr>
          <a:xfrm>
            <a:off x="2092320" y="326592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由于不注意用眼，导致晶状体曲度过大或者眼球的前后径过长，使物像落在视网膜前方，故看到的物像模糊不清，导致近视。需要佩戴凹透镜进行矫正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922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堂探究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矩形 2"/>
          <p:cNvSpPr/>
          <p:nvPr/>
        </p:nvSpPr>
        <p:spPr>
          <a:xfrm>
            <a:off x="1760400" y="9079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探究二  耳的结构和听觉的形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1"/>
          <p:cNvSpPr/>
          <p:nvPr/>
        </p:nvSpPr>
        <p:spPr>
          <a:xfrm>
            <a:off x="1547640" y="1844640"/>
            <a:ext cx="905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阅读课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84~8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的内容，并回答相关问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听觉感受器和形成听觉的场所分别是什么结构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9"/>
          <p:cNvSpPr/>
          <p:nvPr/>
        </p:nvSpPr>
        <p:spPr>
          <a:xfrm>
            <a:off x="2135160" y="341460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听觉感受器和形成听觉的场所分别是耳蜗和大脑皮层的听觉中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922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堂探究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1568520" y="1052640"/>
            <a:ext cx="905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下面请你用关键词和箭头写出听觉的形成过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遇到巨大声响时，应迅速张开口，并用双手捂住耳朵，这样做有何好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9"/>
          <p:cNvSpPr/>
          <p:nvPr/>
        </p:nvSpPr>
        <p:spPr>
          <a:xfrm>
            <a:off x="2171880" y="1916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声波→外耳道→鼓膜→听小骨→耳蜗内的听觉感受器→听觉神经→大脑皮层的一定区域（听觉中枢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10"/>
          <p:cNvSpPr/>
          <p:nvPr/>
        </p:nvSpPr>
        <p:spPr>
          <a:xfrm>
            <a:off x="2025720" y="4726080"/>
            <a:ext cx="81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这样做可以保持鼓膜内外大气压的平衡，以免振破鼓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9224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随堂检测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1"/>
          <p:cNvSpPr/>
          <p:nvPr/>
        </p:nvSpPr>
        <p:spPr>
          <a:xfrm>
            <a:off x="1523880" y="17924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眼是心灵的窗户，视觉感受器位于眼的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晶状体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视网膜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脉络膜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角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知识点二：眼和视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2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外界物体反射的光线进入眼睛，物象和视觉形成的部位分别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角膜、视网膜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晶状体、视网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视网膜、脉络膜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视网膜、大脑皮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"/>
          <p:cNvSpPr/>
          <p:nvPr/>
        </p:nvSpPr>
        <p:spPr>
          <a:xfrm>
            <a:off x="9707400" y="155376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5313240" y="4450320"/>
            <a:ext cx="7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2891160" y="981000"/>
            <a:ext cx="22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知识点一  人体的感受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9224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随堂检测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1"/>
          <p:cNvSpPr/>
          <p:nvPr/>
        </p:nvSpPr>
        <p:spPr>
          <a:xfrm>
            <a:off x="1523880" y="23587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3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下列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4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幅图，分别表示来自远方物体的光经过远视眼、近视眼折光系统折射后的成像情况和对它们进行矫正的做法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。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其中表示近视眼成像情况和矫正做法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②①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②④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③①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③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4202280" y="313776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图片24" descr="菁优网：http://www.jyeoo.com"/>
          <p:cNvPicPr/>
          <p:nvPr/>
        </p:nvPicPr>
        <p:blipFill>
          <a:blip r:embed="rId1"/>
          <a:stretch/>
        </p:blipFill>
        <p:spPr>
          <a:xfrm>
            <a:off x="2008080" y="3809880"/>
            <a:ext cx="796140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922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随堂检测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1"/>
          <p:cNvSpPr/>
          <p:nvPr/>
        </p:nvSpPr>
        <p:spPr>
          <a:xfrm>
            <a:off x="1523880" y="18338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知识点三：耳和听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4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如图为耳的结构模式图，具有听觉感受器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①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②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③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2273400" y="25549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图片24" descr="菁优网：http://www.jyeoo.com"/>
          <p:cNvPicPr/>
          <p:nvPr/>
        </p:nvPicPr>
        <p:blipFill>
          <a:blip r:embed="rId1"/>
          <a:stretch/>
        </p:blipFill>
        <p:spPr>
          <a:xfrm>
            <a:off x="3824280" y="2970360"/>
            <a:ext cx="483876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标题 1"/>
          <p:cNvSpPr/>
          <p:nvPr/>
        </p:nvSpPr>
        <p:spPr>
          <a:xfrm>
            <a:off x="2006640" y="6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"/>
              </a:rPr>
              <a:t>导学目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1754280" y="765000"/>
            <a:ext cx="826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习目标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"/>
          <p:cNvSpPr/>
          <p:nvPr/>
        </p:nvSpPr>
        <p:spPr>
          <a:xfrm>
            <a:off x="1558800" y="1484280"/>
            <a:ext cx="91090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了解人体的感受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能说出眼球的结构名称和视觉的形成过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说出近视的成因及预防的方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了解耳的结构，尝试学会听觉形成的过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菱形 11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菱形 12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2944440" y="3997440"/>
            <a:ext cx="8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学习重、难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2"/>
          <p:cNvSpPr/>
          <p:nvPr/>
        </p:nvSpPr>
        <p:spPr>
          <a:xfrm>
            <a:off x="1687680" y="4653000"/>
            <a:ext cx="886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眼球的结构和视觉的形成过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导致近视和远视的各种因素及预防的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耳的结构和听觉形成的过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922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随堂检测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1"/>
          <p:cNvSpPr/>
          <p:nvPr/>
        </p:nvSpPr>
        <p:spPr>
          <a:xfrm>
            <a:off x="1523880" y="2321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5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声波形成到听觉形成需经过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①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听小骨  ②鼓膜  ③耳蜗内的听觉感受器  ④外耳道  ⑤大脑皮层的听觉中枢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声波→①→②→③→④→⑤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声波→④→②→①→③→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声波→④→①→②→③→⑤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声波→④→③→①→②→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1"/>
          <p:cNvSpPr/>
          <p:nvPr/>
        </p:nvSpPr>
        <p:spPr>
          <a:xfrm>
            <a:off x="7719840" y="207720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"/>
          <p:cNvSpPr/>
          <p:nvPr/>
        </p:nvSpPr>
        <p:spPr>
          <a:xfrm>
            <a:off x="5518080" y="83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夯实基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"/>
          <p:cNvSpPr/>
          <p:nvPr/>
        </p:nvSpPr>
        <p:spPr>
          <a:xfrm>
            <a:off x="1523880" y="15598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6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味蕾分辨的味觉基本有四种，即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酸、甜、苦、辣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酸、甜、咸、辣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咸、甜、苦、涩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酸、甜、苦、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7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下列器官中不是感觉器官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耳和鼻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眼和舌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皮肤和舌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指甲和毛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8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盲人能“读”盲文，用的是皮肤中的那种感受器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冷觉感受器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触觉感受器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痛觉感受器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温觉感受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8427960" y="133596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1"/>
          <p:cNvSpPr/>
          <p:nvPr/>
        </p:nvSpPr>
        <p:spPr>
          <a:xfrm>
            <a:off x="8177040" y="276948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1"/>
          <p:cNvSpPr/>
          <p:nvPr/>
        </p:nvSpPr>
        <p:spPr>
          <a:xfrm>
            <a:off x="2706840" y="461088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"/>
          <p:cNvSpPr/>
          <p:nvPr/>
        </p:nvSpPr>
        <p:spPr>
          <a:xfrm>
            <a:off x="1523880" y="18036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9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人眼的“白眼球”和“黑眼球”实际上是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虹膜和角膜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巩膜和角膜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巩膜和虹膜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角膜和瞳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0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图是人眼球结构示意图，视觉感受器位于图中的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①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②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③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"/>
          <p:cNvSpPr/>
          <p:nvPr/>
        </p:nvSpPr>
        <p:spPr>
          <a:xfrm>
            <a:off x="2160720" y="182808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"/>
          <p:cNvSpPr/>
          <p:nvPr/>
        </p:nvSpPr>
        <p:spPr>
          <a:xfrm>
            <a:off x="3036960" y="387108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图片24" descr="菁优网：http://www.jyeoo.com"/>
          <p:cNvPicPr/>
          <p:nvPr/>
        </p:nvPicPr>
        <p:blipFill>
          <a:blip r:embed="rId1"/>
          <a:stretch/>
        </p:blipFill>
        <p:spPr>
          <a:xfrm>
            <a:off x="5397480" y="3873600"/>
            <a:ext cx="333684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"/>
          <p:cNvSpPr/>
          <p:nvPr/>
        </p:nvSpPr>
        <p:spPr>
          <a:xfrm>
            <a:off x="1527120" y="17654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1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视觉形成过程为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①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通过折射在视网膜上形成物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②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外界物体反射的光线经过瞳孔进入眼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③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神经冲动经视神经传导视觉中枢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④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感光细胞产生神经冲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⑤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视觉中枢产生视觉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. 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①②③④⑤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①④②③⑤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②①③④⑤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②①④③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"/>
          <p:cNvSpPr/>
          <p:nvPr/>
        </p:nvSpPr>
        <p:spPr>
          <a:xfrm>
            <a:off x="5934240" y="176436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1"/>
          <p:cNvSpPr/>
          <p:nvPr/>
        </p:nvSpPr>
        <p:spPr>
          <a:xfrm>
            <a:off x="1523880" y="25347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2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近视的成因及矫正方法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晶状体曲度变大，眼球前后径过短，配戴凸透镜矫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晶状体曲度变大，眼球前后径过长，配戴凹透镜矫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晶状体曲度变小，眼球前后径过长，配戴凹透镜矫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晶状体曲度变小，眼球前后径过短，配戴凸透镜矫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1"/>
          <p:cNvSpPr/>
          <p:nvPr/>
        </p:nvSpPr>
        <p:spPr>
          <a:xfrm>
            <a:off x="7583400" y="155952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"/>
          <p:cNvSpPr/>
          <p:nvPr/>
        </p:nvSpPr>
        <p:spPr>
          <a:xfrm>
            <a:off x="1527120" y="17989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3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下列选项中，有利于养成用眼卫生习惯的行为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长时间通过手机看微信或玩游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长时间使用电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在光线过强或过暗的环境中阅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坚持做眼保健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4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有的人乘车、乘船时会晕车、晕船，你知道这与以下哪个结构有关？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鼓膜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耳蜗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前庭与半规管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听小骨和鼓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1"/>
          <p:cNvSpPr/>
          <p:nvPr/>
        </p:nvSpPr>
        <p:spPr>
          <a:xfrm>
            <a:off x="3127320" y="178488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1"/>
          <p:cNvSpPr/>
          <p:nvPr/>
        </p:nvSpPr>
        <p:spPr>
          <a:xfrm>
            <a:off x="6759720" y="467280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1"/>
          <p:cNvSpPr/>
          <p:nvPr/>
        </p:nvSpPr>
        <p:spPr>
          <a:xfrm>
            <a:off x="1527120" y="15361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5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将鼓膜的振动传递到内耳的结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咽鼓管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半规管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耳蜗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听小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6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人产生听觉的部位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鼓膜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耳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与听觉有关的神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大脑皮层的一定区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9234360" y="150876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1"/>
          <p:cNvSpPr/>
          <p:nvPr/>
        </p:nvSpPr>
        <p:spPr>
          <a:xfrm>
            <a:off x="6784920" y="298368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81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9"/>
          <p:cNvSpPr/>
          <p:nvPr/>
        </p:nvSpPr>
        <p:spPr>
          <a:xfrm>
            <a:off x="1631880" y="6435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1"/>
          <p:cNvSpPr/>
          <p:nvPr/>
        </p:nvSpPr>
        <p:spPr>
          <a:xfrm>
            <a:off x="1523880" y="22910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7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下列关于耳的结构的叙述，不正确的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鼓膜、听小骨和鼓室组成中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耳蜗内具有听觉感受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前庭和半规管与维持身体平衡有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咽鼓管能够传导声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2251080" y="278028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81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9"/>
          <p:cNvSpPr/>
          <p:nvPr/>
        </p:nvSpPr>
        <p:spPr>
          <a:xfrm>
            <a:off x="1631880" y="6435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1"/>
          <p:cNvSpPr/>
          <p:nvPr/>
        </p:nvSpPr>
        <p:spPr>
          <a:xfrm>
            <a:off x="1527120" y="15210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8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“眼睛是心灵的窗户”，请结合如图眼球结构示意图，指出下列描述中错误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[2]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在成像过程中相当于凸透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结构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[2]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过度变凸，则看不清远处的物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结构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[8]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能将物像刺激转变为神经冲动，并形成视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我们通常所说的黑眼球和白眼球分别是指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[4]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和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1"/>
          <p:cNvSpPr/>
          <p:nvPr/>
        </p:nvSpPr>
        <p:spPr>
          <a:xfrm>
            <a:off x="8709120" y="152316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图片24" descr="菁优网：http://www.jyeoo.com"/>
          <p:cNvPicPr/>
          <p:nvPr/>
        </p:nvPicPr>
        <p:blipFill>
          <a:blip r:embed="rId1"/>
          <a:stretch/>
        </p:blipFill>
        <p:spPr>
          <a:xfrm>
            <a:off x="3005280" y="2227320"/>
            <a:ext cx="357804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81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1"/>
          <p:cNvSpPr/>
          <p:nvPr/>
        </p:nvSpPr>
        <p:spPr>
          <a:xfrm>
            <a:off x="1522440" y="505548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1"/>
          <p:cNvSpPr/>
          <p:nvPr/>
        </p:nvSpPr>
        <p:spPr>
          <a:xfrm>
            <a:off x="1527120" y="16776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9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右图是眼球的结构示意图，请据图回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）“红灯”发出的光进入司机眼球成像的先后顺序是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　  →　   　→　   　→　　  →　　  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填序号）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1"/>
          <p:cNvSpPr/>
          <p:nvPr/>
        </p:nvSpPr>
        <p:spPr>
          <a:xfrm>
            <a:off x="3213000" y="505548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1"/>
          <p:cNvSpPr/>
          <p:nvPr/>
        </p:nvSpPr>
        <p:spPr>
          <a:xfrm>
            <a:off x="4863960" y="505548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1"/>
          <p:cNvSpPr/>
          <p:nvPr/>
        </p:nvSpPr>
        <p:spPr>
          <a:xfrm>
            <a:off x="6288120" y="505548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7839000" y="505548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图片24" descr="菁优网：http://www.jyeoo.com"/>
          <p:cNvPicPr/>
          <p:nvPr/>
        </p:nvPicPr>
        <p:blipFill>
          <a:blip r:embed="rId1"/>
          <a:stretch/>
        </p:blipFill>
        <p:spPr>
          <a:xfrm>
            <a:off x="3759120" y="1968480"/>
            <a:ext cx="3249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标题 1"/>
          <p:cNvSpPr/>
          <p:nvPr/>
        </p:nvSpPr>
        <p:spPr>
          <a:xfrm>
            <a:off x="19303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菱形 2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菱形 2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2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1523880" y="1675800"/>
            <a:ext cx="898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知识点一  人体的感受器（阅读教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P7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人体各种感觉的获取：靠分布在身体不同部位的感受器获取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分类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简单感受器：如皮肤里的感觉神经末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感觉器官：带有附属结构的感受器，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是视觉器官，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是听觉器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3849840" y="4234680"/>
            <a:ext cx="28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1"/>
          <p:cNvSpPr/>
          <p:nvPr/>
        </p:nvSpPr>
        <p:spPr>
          <a:xfrm>
            <a:off x="9186840" y="379008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1"/>
          <p:cNvSpPr/>
          <p:nvPr/>
        </p:nvSpPr>
        <p:spPr>
          <a:xfrm>
            <a:off x="1522440" y="24069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2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）“红灯”物像形成的部位在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[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 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]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视网膜，这个信息通过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[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6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]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     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传到视觉中枢形成视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3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）光线进入眼球最先透过的膜是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[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2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]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，也是人体捐献的重要器官之一。沉迷于上网不但会影响学业，而且因长时间近距离注视屏幕会导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[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3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]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  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曲度过大，看不清远处的物体形成近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7873920" y="158976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1"/>
          <p:cNvSpPr/>
          <p:nvPr/>
        </p:nvSpPr>
        <p:spPr>
          <a:xfrm>
            <a:off x="4389480" y="20779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视神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1"/>
          <p:cNvSpPr/>
          <p:nvPr/>
        </p:nvSpPr>
        <p:spPr>
          <a:xfrm>
            <a:off x="8880480" y="255024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角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1"/>
          <p:cNvSpPr/>
          <p:nvPr/>
        </p:nvSpPr>
        <p:spPr>
          <a:xfrm>
            <a:off x="2562120" y="404100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晶状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1"/>
          <p:cNvSpPr/>
          <p:nvPr/>
        </p:nvSpPr>
        <p:spPr>
          <a:xfrm>
            <a:off x="6203880" y="482688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耳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1"/>
          <p:cNvSpPr/>
          <p:nvPr/>
        </p:nvSpPr>
        <p:spPr>
          <a:xfrm>
            <a:off x="1522440" y="16844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2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0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如图，请看耳的基本结构图回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）听觉感受器位于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[⑤]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     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中，听觉的形成在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 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  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1"/>
          <p:cNvSpPr/>
          <p:nvPr/>
        </p:nvSpPr>
        <p:spPr>
          <a:xfrm>
            <a:off x="2046240" y="5258520"/>
            <a:ext cx="18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大脑皮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图片24" descr="菁优网：http://www.jyeoo.com"/>
          <p:cNvPicPr/>
          <p:nvPr/>
        </p:nvPicPr>
        <p:blipFill>
          <a:blip r:embed="rId1"/>
          <a:stretch/>
        </p:blipFill>
        <p:spPr>
          <a:xfrm>
            <a:off x="2795760" y="2089080"/>
            <a:ext cx="44193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1"/>
          <p:cNvSpPr/>
          <p:nvPr/>
        </p:nvSpPr>
        <p:spPr>
          <a:xfrm>
            <a:off x="7562880" y="12661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咽鼓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1"/>
          <p:cNvSpPr/>
          <p:nvPr/>
        </p:nvSpPr>
        <p:spPr>
          <a:xfrm>
            <a:off x="1762200" y="231804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2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）感冒以后，病菌可以沿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[⑥]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    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进入中耳，引起人的中耳炎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3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）同学们在玩耍打闹时请勿用手掌煽耳光，以防压缩空气冲击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[⑨]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   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，导致其破裂而引发传导性耳聋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4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）人除了能用眼感受光的刺激，用耳感受声音的刺激，还能用鼻感受气味的刺激，用舌感受味道的刺激，用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　    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感受冷、热、触、痛、压的刺激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1"/>
          <p:cNvSpPr/>
          <p:nvPr/>
        </p:nvSpPr>
        <p:spPr>
          <a:xfrm>
            <a:off x="5557680" y="277416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鼓膜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1"/>
          <p:cNvSpPr/>
          <p:nvPr/>
        </p:nvSpPr>
        <p:spPr>
          <a:xfrm>
            <a:off x="4246560" y="470916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皮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图片 3" descr=""/>
          <p:cNvPicPr/>
          <p:nvPr/>
        </p:nvPicPr>
        <p:blipFill>
          <a:blip r:embed="rId1"/>
          <a:stretch/>
        </p:blipFill>
        <p:spPr>
          <a:xfrm>
            <a:off x="3287880" y="1916280"/>
            <a:ext cx="63244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922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菱形 11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菱形 12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3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1523880" y="1460880"/>
            <a:ext cx="8982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人眼球的基本结构及其功能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人的眼球近似球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人眼球的基本结构：由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和眼球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构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填图：①巩膜  ②脉络膜  ③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⑤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玻璃体  ⑦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⑧虹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6286680" y="2302560"/>
            <a:ext cx="28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眼球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图片 -2147482527" descr="菁优网"/>
          <p:cNvPicPr/>
          <p:nvPr/>
        </p:nvPicPr>
        <p:blipFill>
          <a:blip r:embed="rId1"/>
          <a:stretch/>
        </p:blipFill>
        <p:spPr>
          <a:xfrm>
            <a:off x="4022640" y="3162240"/>
            <a:ext cx="3164040" cy="2036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"/>
          <p:cNvSpPr/>
          <p:nvPr/>
        </p:nvSpPr>
        <p:spPr>
          <a:xfrm>
            <a:off x="1700280" y="287244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内容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6594480" y="5304600"/>
            <a:ext cx="15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视网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8688240" y="529740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晶状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2135160" y="576324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视神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"/>
          <p:cNvSpPr/>
          <p:nvPr/>
        </p:nvSpPr>
        <p:spPr>
          <a:xfrm>
            <a:off x="6286680" y="5763240"/>
            <a:ext cx="28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角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808280" y="907920"/>
            <a:ext cx="846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知识点二  眼和视觉（阅读教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7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922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1"/>
          <p:cNvSpPr/>
          <p:nvPr/>
        </p:nvSpPr>
        <p:spPr>
          <a:xfrm>
            <a:off x="1523880" y="2211840"/>
            <a:ext cx="898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）眼球的各部分结构和功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虹膜：有色素，中央的小孔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瞳孔：光线的通道。人能通过调节瞳孔的大小使自己在明处和暗处都能看清物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角膜：无色，透明，可以透过光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晶状体：透明，有弹性，像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镜，能折射光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7601040" y="2638080"/>
            <a:ext cx="10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瞳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7023240" y="455688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双凸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0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7340760" y="1516680"/>
            <a:ext cx="28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眼球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1"/>
          <p:cNvSpPr/>
          <p:nvPr/>
        </p:nvSpPr>
        <p:spPr>
          <a:xfrm>
            <a:off x="2716200" y="245988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视网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3"/>
          <p:cNvSpPr/>
          <p:nvPr/>
        </p:nvSpPr>
        <p:spPr>
          <a:xfrm>
            <a:off x="2103480" y="1590840"/>
            <a:ext cx="782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巩膜：白色，坚韧，保护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的内部结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⑥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：含有许多对光线敏感的细胞，能感受光的刺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脉络膜含丰富的血管和色素给视网膜提供营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玻璃体：透明胶状物质，支撑眼球壁，并折射光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0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"/>
          <p:cNvSpPr/>
          <p:nvPr/>
        </p:nvSpPr>
        <p:spPr>
          <a:xfrm>
            <a:off x="1811160" y="1406880"/>
            <a:ext cx="817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视觉的形成过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外界光线→角膜→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→晶状体→玻璃体→视网膜→视神经→大脑皮层的特定区域。其中，形成物象的结构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，形成视觉的结构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的视觉中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5357880" y="1299240"/>
            <a:ext cx="28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瞳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6541920" y="2316960"/>
            <a:ext cx="28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视网膜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3944880" y="2810520"/>
            <a:ext cx="28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大脑皮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0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5629320" y="315504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前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1"/>
          <p:cNvSpPr/>
          <p:nvPr/>
        </p:nvSpPr>
        <p:spPr>
          <a:xfrm>
            <a:off x="7042320" y="4147200"/>
            <a:ext cx="28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凹透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9"/>
          <p:cNvSpPr/>
          <p:nvPr/>
        </p:nvSpPr>
        <p:spPr>
          <a:xfrm>
            <a:off x="2103480" y="1285920"/>
            <a:ext cx="8107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近视及其预防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近视的概念：由于眼球前后径过长，或晶状体曲度过大且不易恢复原大小，远处物体反射来的光线通过晶状体折射所形成的物像，落在视网膜的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，看不清远处物像的现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矫正方法：配戴近视镜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预防方法：做到“三要”和“四不要”（参看课本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0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"/>
          <p:cNvSpPr/>
          <p:nvPr/>
        </p:nvSpPr>
        <p:spPr>
          <a:xfrm>
            <a:off x="1523880" y="1202040"/>
            <a:ext cx="898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知识点三  耳和听觉（阅读教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P8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8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耳的基本结构和功能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外耳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（收集声波）、外耳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中耳：鼓膜、听小骨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内耳：半规管、前庭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3597120" y="3047040"/>
            <a:ext cx="10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耳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6550200" y="3626640"/>
            <a:ext cx="28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鼓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"/>
          <p:cNvSpPr/>
          <p:nvPr/>
        </p:nvSpPr>
        <p:spPr>
          <a:xfrm>
            <a:off x="6673680" y="4111560"/>
            <a:ext cx="9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耳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7T01:24:27Z</dcterms:created>
  <dc:creator>Windows 用户</dc:creator>
  <dc:description/>
  <dc:language>en-US</dc:language>
  <cp:lastModifiedBy>Windows 用户</cp:lastModifiedBy>
  <dcterms:modified xsi:type="dcterms:W3CDTF">2018-02-26T10:11:02Z</dcterms:modified>
  <cp:revision>3</cp:revision>
  <dc:subject/>
  <dc:title>PowerPoint 演示文稿</dc:title>
</cp:coreProperties>
</file>